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2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87B-1AB4-4D2C-8104-A7FAEB4C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DDC-1C5D-4F55-92E7-960217A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A5C-57F4-4206-BA8D-8F13CAE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DA6-EC61-4509-AB2F-5F1D88F5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EB5-68C8-44A4-BE9C-65EA7E1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C82-1F0C-4DFE-8125-765D546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693-B22F-495A-A42A-CE5C068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15E-3A4F-4E2D-9A07-73776428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EB0-47EB-4D13-80A2-C0745E0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08F-DFC8-453F-8915-249E84C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AF9-94EB-47F7-B7C9-8ED8DD4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344-D928-45F9-B03C-367D7C5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315-2649-4A86-B392-88B83973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Проект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27664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ы уравнени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941720"/>
            <a:ext cx="36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полнила: ученица 11 класса Грибской СОШ Тафинцева Нас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ководитель: Мякинникова О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7280" y="0"/>
            <a:ext cx="6985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каждое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второй степени.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781360"/>
            <a:ext cx="8640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Palatino Linotype"/>
              </a:rPr>
              <a:t>  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+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y</a:t>
            </a:r>
            <a:r>
              <a:rPr b="1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=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а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 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х у = 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5733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3429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92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то 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 и  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. Поэтому мы можем, не нарушая равносильности уравнений, разделить обе части второго из них н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1092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3528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1164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933720"/>
            <a:ext cx="51483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(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400536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 у = b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86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Умножив обе части на </a:t>
            </a: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x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, получим равносильное уравнение: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a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,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т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  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— ax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 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0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18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4073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9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72080"/>
            <a:ext cx="9144000" cy="65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00"/>
                </a:solidFill>
                <a:latin typeface="Arial"/>
              </a:rPr>
              <a:t>Подобным же образом решается и сис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—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y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35772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96360" cy="436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79280" y="260280"/>
            <a:ext cx="878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адо решить систему уравнений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ff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графическ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7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Eras Demi ITC"/>
              </a:rPr>
              <a:t>Построим в одной координатной плоскости графики функций</a:t>
            </a:r>
            <a:r>
              <a:rPr b="1" i="1" lang="en-US" sz="32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59516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2349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+ 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= 25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• у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492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349360"/>
            <a:ext cx="338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+ 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 = 12 /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5124" t="5094" r="10591" b="8674"/>
          <a:stretch/>
        </p:blipFill>
        <p:spPr>
          <a:xfrm>
            <a:off x="179280" y="1197000"/>
            <a:ext cx="549612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495000" y="44532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з рис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унка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идно, что значения корней следующи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5280" y="3547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400960" y="551664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76360" y="5013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300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389600">
            <a:off x="870120" y="2334960"/>
            <a:ext cx="1942920" cy="1439640"/>
          </a:xfrm>
          <a:prstGeom prst="blockArc">
            <a:avLst>
              <a:gd name="adj1" fmla="val 10595251"/>
              <a:gd name="adj2" fmla="val 204749"/>
              <a:gd name="adj3" fmla="val 97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36000">
            <a:off x="900360" y="26366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159200">
            <a:off x="250920" y="42922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4430400">
            <a:off x="3116160" y="1787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8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7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0389E-006 L 0.60243 -0.51572 E">
                                      <p:cBhvr>
                                        <p:cTn id="31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961E-006 L 0.53941 -0.47386 E">
                                      <p:cBhvr>
                                        <p:cTn id="32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0.26771 0.1346 E">
                                      <p:cBhvr>
                                        <p:cTn id="3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8622E-006 L 0.18923 0.14501 E">
                                      <p:cBhvr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00ff"/>
                </a:solidFill>
                <a:uFillTx/>
                <a:latin typeface="Comic Sans MS"/>
              </a:rPr>
              <a:t>II</a:t>
            </a:r>
            <a:r>
              <a:rPr b="0" lang="ru-RU" sz="48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аналитически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10400" y="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788000" cy="1622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618920"/>
            <a:ext cx="8425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ножим второе уравнение на 2 и сначала сложим с первым, а затем вычтем из первого.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987640" cy="18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4103640" cy="210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26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373720"/>
            <a:ext cx="835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08881E-006 L -0.38385 -0.00624 E">
                                      <p:cBhvr>
                                        <p:cTn id="38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Задача сводится к системе линейных уравнений с двумя неизвестны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60360" cy="142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35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Применяя к полученным системам метод сложения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(т.е. сперва сложим эти уравнения, а далее вычтем из первых – вторые)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, получи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55920" cy="393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308720" y="2924280"/>
            <a:ext cx="139068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4508640"/>
            <a:ext cx="1081080" cy="734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278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(4;3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(-3;-4) ; (3;4) ; (-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4000" y="2825640"/>
            <a:ext cx="1950840" cy="403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1081080" cy="735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95280" y="260280"/>
            <a:ext cx="374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9464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равнение записывают одно под другим и объединяют фигурной скобкой. Порядок уравнений не играет роли.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+у=39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-у=11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17800" y="414000"/>
            <a:ext cx="8893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ff"/>
                </a:solidFill>
                <a:uFillTx/>
                <a:latin typeface="Arial"/>
              </a:rPr>
              <a:t>Системой уравн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зывается множество уравнений, решаемых совмес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51080"/>
            <a:ext cx="82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ывается множество пар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х;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, удовлетворяющих каждому уравн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65120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0"/>
            <a:ext cx="507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ff"/>
                </a:solidFill>
                <a:latin typeface="Arial"/>
              </a:rPr>
              <a:t>Обознач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500200"/>
            <a:ext cx="21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5х+3у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2х+3у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50864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93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" y="549000"/>
            <a:ext cx="90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Решением сист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равнений с 2 переменными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ешить систему уравнений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009900"/>
                </a:solidFill>
                <a:uFillTx/>
                <a:latin typeface="Comic Sans MS"/>
              </a:rPr>
              <a:t> способ (графиче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392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им в одной координатной плоскости графики фун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92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097080" cy="1044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2538" t="2456" r="5524" b="8606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530064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00640"/>
            <a:ext cx="14472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3213000"/>
            <a:ext cx="1152360" cy="3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 rot="15397200">
            <a:off x="598320" y="2906280"/>
            <a:ext cx="10796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00960" y="558972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7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2 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5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54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 ;-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47549E-007 L 0.57899 -0.22202 E">
                                      <p:cBhvr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08788E-007 L 0.53159 -0.34806 E">
                                      <p:cBhvr>
                                        <p:cTn id="50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7086E-006 L 0.2717 0.06105 E">
                                      <p:cBhvr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08788E-007 L 0.29532 -0.09621 E">
                                      <p:cBhvr>
                                        <p:cTn id="52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2884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urier New"/>
              </a:rPr>
              <a:t>Ответ</a:t>
            </a:r>
            <a:r>
              <a:rPr b="0" lang="en-US" sz="9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8080" y="35470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3500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;-3); (-2;-3); (3;2); (-3;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5640" y="189000"/>
            <a:ext cx="7632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одно первой степени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а другое второй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7632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 уравнений ви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005360"/>
            <a:ext cx="360360" cy="187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84640"/>
            <a:ext cx="43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149720"/>
            <a:ext cx="331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 + у = 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у = 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43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перв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5157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4508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229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усть дана систем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2560" y="1484280"/>
            <a:ext cx="62658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403280" y="1484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242100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 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70028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87308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40053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спользуемся способом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од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349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616572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зим из второго уравнения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74746E-006 L -0.09444 -2.74746E-006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Тогда уравнение 2-й степени после подстановки дает уравнение с одним неизвестным </a:t>
            </a:r>
            <a:r>
              <a:rPr b="1" i="1" lang="en-US" sz="4000" spc="-1" strike="noStrike">
                <a:solidFill>
                  <a:srgbClr val="660066"/>
                </a:solidFill>
                <a:latin typeface="Courier New"/>
              </a:rPr>
              <a:t>х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357720"/>
            <a:ext cx="626616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189080" y="3357720"/>
            <a:ext cx="830160" cy="93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2720" y="4294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1  = 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1800" y="357336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87920" b="-2337"/>
          <a:stretch/>
        </p:blipFill>
        <p:spPr>
          <a:xfrm>
            <a:off x="1187280" y="3357720"/>
            <a:ext cx="830520" cy="93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335772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4(2х-1) +х+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430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15480" y="55818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 4(2х-1) + х + 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258920" y="1268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339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2х-1) + х + 3 (2х - 1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4х – 4х + 1) + х +6х –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16х + 16х - 4 + х + 6х – 3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-15х + 23х – 8 = 0; 15х – 23х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4145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3320" y="2421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30621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7320" y="3062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1320" y="3716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710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435780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0040" y="43578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197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5 х - 23 х + 8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0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1989000"/>
            <a:ext cx="590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3 – 4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15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8    =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9 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3440" y="198900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068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=             =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2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365720"/>
            <a:ext cx="61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               =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1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984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6920" y="42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65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6200000">
            <a:off x="6986520" y="4700160"/>
            <a:ext cx="2119320" cy="21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После этого из уравнени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Monotype Corsiva"/>
              </a:rPr>
              <a:t>у = 2х — 1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находим: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141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20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 = 2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1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= 2     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1431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47991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3141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•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1     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486900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8/15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    = 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6000" y="5276880"/>
            <a:ext cx="1908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Таким образом, данная система имеет две пары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реш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0bad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x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 ,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 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;       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2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х</a:t>
            </a:r>
            <a:r>
              <a:rPr b="1" lang="en-US" sz="24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8/15  ,  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 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22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(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;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/15 ; 1/1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2:17Z</dcterms:created>
  <dc:creator>User</dc:creator>
  <dc:description/>
  <dc:language>en-US</dc:language>
  <cp:lastModifiedBy>User</cp:lastModifiedBy>
  <dcterms:modified xsi:type="dcterms:W3CDTF">2009-11-10T16:56:55Z</dcterms:modified>
  <cp:revision>12</cp:revision>
  <dc:subject/>
  <dc:title>Слайд 1</dc:title>
</cp:coreProperties>
</file>